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2B32-600D-4ACF-975C-87603B349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8050-0B44-4216-B5D9-BF2C6D96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5EE4-6EEB-41CB-A656-8D1046067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6FC0-FC0B-46C0-9EF2-F5BC31D3E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14E57-ADD4-4FD6-8731-56D8DC584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0A5CD-161E-4ABF-A760-D7588B62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A5A41-75DA-463E-8CBC-E3BC131A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2C688-C7E3-475A-ACD3-422147CD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8BB39B-0896-48AE-AC2A-9EF95CAD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21FDB-03B6-4AA5-8203-5A3EF3C6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B20F2-C318-4EBC-A1D9-484C1894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F6DD-3B36-4225-9F3E-88F51B7C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BFEE01-72F6-4874-B6CD-CD7A487E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8F234-DC80-4539-8C39-1CED09FE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F4DB2-CFEE-4900-814E-9401B8DB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FFC4D-D5C3-4E95-B6A3-9C2828CE8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FEE933-A46D-4C06-9C84-E603B8F42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7288-4975-4B4C-82B0-2CAD5F0F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F52C-68D7-45D8-9285-E8B5C31B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16D5-C22A-49A3-AAA8-09BA2F9A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9C21-7F60-497F-BBC4-867B682F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5887-A5D3-49C4-A61F-32725B00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F998-6AFA-46BC-88ED-085A8742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D7A6-03CF-408F-AAE6-F170C357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9939-A447-4300-97E5-30078433EDE3}" type="slidenum">
              <a:rPr b="0" lang="ar-E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5DF7-FA80-4A06-8CF2-13B6D34E418F}" type="slidenum">
              <a:rPr b="0" lang="ar-E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amera.wav" TargetMode="External"/><Relationship Id="rId2" Type="http://schemas.microsoft.com/office/2007/relationships/media" Target="file:///tmp/home/.config/libreoffice/4/user/gallery/camera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90720" y="1295280"/>
            <a:ext cx="741672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معيار المحاسبة المصرى رقم (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26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) 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IAS 39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الادوات المالية - الاعتراف والقياس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</p:txBody>
      </p:sp>
      <p:pic>
        <p:nvPicPr>
          <p:cNvPr id="12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286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audio isNarration="0">
              <p:cMediaNode showWhenStopped="1">
                <p:cTn/>
                <p:tgtEl>
                  <p:spTgt spid="12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27280" y="549360"/>
            <a:ext cx="2459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اعتراف الأولى</a:t>
            </a:r>
            <a:r>
              <a:rPr b="0" lang="ar-SA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424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على المنشأة إثبات الأصل المالى و الالتزام المالى فى ميزانيتها عندما - وفقط عندما - تصبح المنشأة طرفاً فى الأحكام التعاقدية للأداة المال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استبعاد الأصل المالى من الدفات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قوم المنشأة باستبعاد الأصل المالى  من الدفاتر عندما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وفقط عندما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نتهى فترة سري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ـ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ن الحق التعاقدى فى الحصول على تدفقات نقدي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ـ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ن الأصل المالى .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أو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قوم المنشأة بتحويل الأصل المالي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03280" y="475920"/>
            <a:ext cx="54831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تحويلات المؤهلة للاستبعاد من الدفاتر</a:t>
            </a:r>
            <a:r>
              <a:rPr b="0" lang="ar-SA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إذا نتج عن تحويل أصل واستبعاده من الدفاتر بالكامل حصول المنشأة على أصل مالى جديد أو التزامها بالتزام مالى جديد أو التزامات تأدية الخدمة ،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فعلى المنشأة الاعتراف بالأصل أو الالتزام المالى أو التزامات تأدية الخدمة بالقيمة العادل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فى حالة استبعاد أصل مالى بالكامل  من الدفاتر، فيجب الاعتراف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فى الأرباح والخسائر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بالفرق بين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( أ )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قيمة الدفترية 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و (ب)  إجمالي 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 المقابل المستلم (متضمناً أى أصل مالى جديد وناقصاً أى التزام مالى جديد) و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 أية أرباح أو خسائر متراكمة سبق الاعتراف بها مباشرة فى حقوق الملك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00720" y="475920"/>
            <a:ext cx="41860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ستبعاد التزام مالى من الدفاتر</a:t>
            </a:r>
            <a:r>
              <a:rPr b="0" lang="ar-SA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ستبعد المنشأة  الالتزام المالى (أو جزءاً منه) من ميزانيتها عندما - وفقط عندما - ينتهى إما  بالتخلص منه أو إلغائه أو انتهاء مدته الواردة بالعق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يدرج </a:t>
            </a: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بالأرباح والخسائر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فرق بين القيمة الدفترية للالتزام (أو جزء منه) الذى تم الإعفاء منه أو تحويله إلى طرف آخر متضمناً المصروفات غير المستهلكة وبين المبلغ المدفوع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قي</a:t>
            </a: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ــــ</a:t>
            </a: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س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000" y="3789360"/>
            <a:ext cx="80852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أصول مالية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بالقيمة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العادل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من خلال الأرباح أو الخسائر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9880" indent="-479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ستثمارات محتفظ بها حتى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تاريخ الاستحقاق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بالتكلفة المستهلك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باستخدام طريقة الفائدة الفعلية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9880" indent="-479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قروض ومديونيات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بالتكلفة المستهلك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باستخدام طريقة الفائدة الفعلية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9880" indent="-479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صول مالية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متاحة للبيع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ar-SA" sz="2400" spc="-1" strike="noStrike">
                <a:solidFill>
                  <a:srgbClr val="ffffff"/>
                </a:solidFill>
                <a:latin typeface="Arial"/>
              </a:rPr>
              <a:t>يتم قياسها </a:t>
            </a:r>
            <a:r>
              <a:rPr b="1" i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بالتكلف</a:t>
            </a:r>
            <a:r>
              <a:rPr b="1" i="1" lang="ar-EG" sz="2400" spc="-1" strike="noStrike">
                <a:solidFill>
                  <a:srgbClr val="ffffff"/>
                </a:solidFill>
                <a:latin typeface="Arial"/>
              </a:rPr>
              <a:t>ة</a:t>
            </a:r>
            <a:r>
              <a:rPr b="0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1413000"/>
            <a:ext cx="80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قياس الأولى للأصول المالية و الالتزامات المالي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عند الاعتراف الأولى بالأصل المالى أو الالتزام المالى على المنشأة قياسه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بالقيمة العادل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قياس اللاحق للأصول المالي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أغراض القياس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اللاحق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تبوب الاصول المالية الى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ff00"/>
                </a:solidFill>
                <a:uFillTx/>
                <a:latin typeface="Arial"/>
              </a:rPr>
              <a:t>اضمحلال قيمة الأصول المالية</a:t>
            </a:r>
            <a:r>
              <a:rPr b="1" lang="ar-EG" sz="3600" spc="-1" strike="noStrike" u="sng">
                <a:solidFill>
                  <a:srgbClr val="ffff00"/>
                </a:solidFill>
                <a:uFillTx/>
                <a:latin typeface="Arial"/>
              </a:rPr>
              <a:t> و إسترداده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57200" y="1600200"/>
          <a:ext cx="822960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4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عالجة الاستردا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عالجة الخسار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أص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8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1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بالتكلفة المستهلكة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ير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تكلف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سندا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ه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خسائر المجمعة في حقوق الملكية تحول لقائمة الدخ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تاح للبي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5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رد ب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ترد ب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11640" y="907920"/>
            <a:ext cx="237492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محاسبة التغطي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3573000"/>
            <a:ext cx="79200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غطية خطر القيمة العادل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غطية خطر التدفقات النقد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غطية خطر صافى الاستثمار فى عملية أجنب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1700280"/>
            <a:ext cx="784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عترف محاسبة التغطية بأثر المقاصة على الأرباح أو الخسائر الناتجة عن التغيرات فى القيم العادلة لأداة التغطية و البند المغطى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هناك ثلاثة أنواع من علاقات التغط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35280" y="549360"/>
            <a:ext cx="505152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محاسبة عن تغطيات القيمة العادل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 ( أ )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الاعتراف ضمن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الأرباح أو الخسائر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بالأرباح أو الخسائر الناتجة عن إعادة قياس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أداة التغطي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بالقيمة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العادل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(بالنسبة لأداة التغطية المشتقة) أو إعادة قياس المكون الأجنبى من القيمة الدفتر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(ب)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تسوية القيمة الدفترية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للبند المغطى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بقيمة الأرباح أو الخسائر التي لحقت به إذا تم قياس البند المغطى بالتكلف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إذا كان أصلاً مالياً متاحاً للبيع ،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يتم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إستهلاك هذه الأرباح أو الخسائر حتى تاريخ إستحقاق الأصل بطريقة الفائدة الفعلية أو ، إذا تعذر، فبطريقة القسط الثاب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4653000"/>
            <a:ext cx="81374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700000" y="765000"/>
            <a:ext cx="59864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محاسبة عن تغط</a:t>
            </a: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ي</a:t>
            </a: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ت خطر التدفقات النقدي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77580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( أ )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الاعتراف مباشرة ضمن حقوق الملكية من خلال قائمة التغير فى حقوق الملكية ذلك الجزء من الأرباح أو خسائر أداة التغطية والتى ثبت انها تغطية فعال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580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(ب)  يتم الاعتراف ضمن الأرباح أو الخسائر بالجزء غير الفعال من الأرباح أو الخسائر على أداة التغط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58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64000" y="1268280"/>
            <a:ext cx="2736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حتوي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640" y="2205000"/>
            <a:ext cx="763272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مقدمة المعيا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تعريف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المعالجة المحاسبية -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اعتراف والاستبعاد من الدفات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مثا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31640" y="2420640"/>
            <a:ext cx="40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مقدمة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11640" y="764640"/>
            <a:ext cx="268596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مقدمة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5640" y="1916280"/>
            <a:ext cx="799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هدف هذا المعيار إلى وضع أسس للاعتراف ولقياس الأصول والالتزامات المالية وكذلك بعض عقود شراء أو بيع البنود غير المال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64000" y="2707920"/>
            <a:ext cx="302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تعريفـــــــ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04000" y="404640"/>
            <a:ext cx="18828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عريف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422100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أصل أو الالتزام المالى</a:t>
            </a:r>
            <a:r>
              <a:rPr b="1" i="1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قيم</a:t>
            </a:r>
            <a:r>
              <a:rPr b="1" i="1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بالقيمة العادلة من خلال الأرباح أو الخسائر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(أ) ي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م تبويبه كأصل محتفظ به لأغراض المتاجر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م اقتناؤه أو نشأ بصفة أساسية لغرض البيع أو إعادة </a:t>
            </a:r>
            <a:r>
              <a:rPr b="1" i="1" lang="ar-SA" sz="2400" spc="-1" strike="noStrike">
                <a:solidFill>
                  <a:srgbClr val="ffffff"/>
                </a:solidFill>
                <a:latin typeface="Arial"/>
              </a:rPr>
              <a:t>الشراء فى مدى زمنى قصير.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و  (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) جزءاً من محفظة أدوات مالية محددة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و  (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) مشتقات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مالية و ليست للتغطي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(ب) ي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م تبويبه عند الاعتراف الأولى بالقيمة العادلة من خلال الأرباح أو الخسائر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119700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شتقات المالي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أدوات مالية أو أية عقود أخرى وتتضمن كل الخصائص الثلاث التالية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( أ )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تغير قيمتها وفقاً للتغير فى سعر فائدة معين أو سعر أداة مالية معينة أو سعر صرف عمل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و </a:t>
            </a:r>
            <a:r>
              <a:rPr b="1" i="1" lang="ar-SA" sz="2400" spc="-1" strike="noStrike">
                <a:solidFill>
                  <a:srgbClr val="ffffff"/>
                </a:solidFill>
                <a:latin typeface="Arial"/>
              </a:rPr>
              <a:t>(ب) لا تتطلب صافى استثمار أولى أو تتطلب صافى استثمار أولى أقل من المطلوب لأنواع أخرى من العقود التى يتوقع أن تتأثر تأثراً مماثلاً بالتغيرات  فى عوامل السوق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و (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ج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)  يتم تسويتها فى تاريخ مستقبلى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300720" y="475920"/>
            <a:ext cx="238608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ابع - تعريف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أصول المالية المتاحة للبيع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أصول غير مش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ت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ة تم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حديدها كأصول متاحة للبيع عند الاقتناء، وغير المبوب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كقروض  ومديونيات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،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كاستثمارات محتفظ بها حتى تاريخ الاستحقاق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، أ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كأصول مالية بالقيمة العادلة من خلال الأرباح أو الخسائ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تكلفة المستهلكة للأصل المالى أو الالتزام المالى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 هى القيمة التى يقاس بها الأصل المالى أو الالتزام المالى عند الاعتراف الأولى به مضافاً إليه أو مخصوماً منه استهلاك علاوة أو خصم الإصدا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طريقة الفائدة الفعلي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طريقة إستهلاك خصم أو علاوة الإصدار باستخدام سعر فائدة السوق للأدوات المالية المماثلة . والإستهلاك هنا بتحديد القيمة الحالية للأصل أو الإلتزام بحيث الفرق بين رصيدها أول واخر المدة هو استهلاك الفتر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84720" y="404280"/>
            <a:ext cx="26020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ابع - تعريف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ارتباط المؤكد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و اتفاق ملزم لتبادل كمية محددة من الموارد بسعر محدد فى تاريخ أو تواريخ مستقبلية محدد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عاملات المتوقع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معاملات غير مؤيدة بارتباط و لكن متوقع حدوثها مستقبل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بند الذى يتم تغطيت</a:t>
            </a: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ه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هو أصل أو التزام أو ارتباط مؤكد أو معاملات متوقعة بدرجة عالية من الاحتمال أو صافى الاستثمار فى عمليات أجنبية والتى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-39744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عرض المنشأة لمخاطر التغير فى القيمة العادلة أو التدفقات النقدية المستقبلية.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و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م تحديدها على أنها بند تمت تغطية مخاطره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فعالية تغطية المخاطر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الجزء من مخاطر البند الذي تم تغطيته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dging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بنجاح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شتقات الضمنية (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Embedded Derivatives</a:t>
            </a: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)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هى مكون من مكونات أداة مالية مركبة والتى تؤثر على قيمة الأداة . مثل حق تحويل السند لسهم فهذا الحق يرفع قيمة السن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95640" y="2565000"/>
            <a:ext cx="52560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المعالجة المحاسبية </a:t>
            </a:r>
            <a:br>
              <a:rPr sz="3200"/>
            </a:b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الاعتراف والاستبعاد من الدفات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20:51:53Z</dcterms:created>
  <dc:creator>Eissa</dc:creator>
  <dc:description/>
  <dc:language>en-US</dc:language>
  <cp:lastModifiedBy>Eissa</cp:lastModifiedBy>
  <dcterms:modified xsi:type="dcterms:W3CDTF">2006-11-15T09:44:40Z</dcterms:modified>
  <cp:revision>32</cp:revision>
  <dc:subject/>
  <dc:title>معيار المحاسبة المصرى رقم (26) الأدوات المالية : " الاعتراف والقياس"</dc:title>
</cp:coreProperties>
</file>